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7.png" ContentType="image/png"/>
  <Override PartName="/ppt/media/image24.png" ContentType="image/png"/>
  <Override PartName="/ppt/media/image18.jpeg" ContentType="image/jpeg"/>
  <Override PartName="/ppt/media/image21.png" ContentType="image/pn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13E-2E48-479D-996C-7087F2DE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E8C-87DD-4AF7-9324-454BDF6D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80FA-87D4-438C-9D1F-155D467C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284-6F15-459A-9D4B-08188808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2DB5-FE81-46C3-A702-B6DCB8C4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0027-5310-4070-B40D-26C8530B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8A3C-4B8C-476B-9D18-3E151440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A948-928A-46EC-93EF-E23E0173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20A1-FD22-4641-B4CE-E01FB87D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8CC-5B43-49EB-8CB7-EC2A1FE0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6614-D9A3-4D87-B94C-D8809C97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323C-14B8-4045-9427-D8AC723F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E3A8-46D2-4A62-A191-C25F434F93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mailto:Lenka.Sramkova@upol.cz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Lenka\Desktop\Brain.jpg"/>
          <p:cNvPicPr/>
          <p:nvPr/>
        </p:nvPicPr>
        <p:blipFill>
          <a:blip r:embed="rId1"/>
          <a:stretch/>
        </p:blipFill>
        <p:spPr>
          <a:xfrm>
            <a:off x="0" y="2786040"/>
            <a:ext cx="4071960" cy="4071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57200" y="713880"/>
            <a:ext cx="742968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sychologie pro učitele</a:t>
            </a:r>
            <a:br>
              <a:rPr sz="4000"/>
            </a:br>
            <a:br>
              <a:rPr sz="4000"/>
            </a:br>
            <a:r>
              <a:rPr b="0" lang="cs-CZ" sz="5500" spc="-1" strike="noStrike">
                <a:solidFill>
                  <a:srgbClr val="ff0000"/>
                </a:solidFill>
                <a:latin typeface="Calibri"/>
              </a:rPr>
              <a:t>Komunikace ve škole </a:t>
            </a:r>
            <a:br>
              <a:rPr sz="5000"/>
            </a:br>
            <a:r>
              <a:rPr b="0" lang="cs-CZ" sz="3300" spc="-1" strike="noStrike">
                <a:solidFill>
                  <a:srgbClr val="ff0000"/>
                </a:solidFill>
                <a:latin typeface="Calibri"/>
              </a:rPr>
              <a:t>a její význam pro učení</a:t>
            </a:r>
            <a:br>
              <a:rPr sz="40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142880" y="5000760"/>
            <a:ext cx="471492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26. 11.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PhDr. Lenka Šrám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Jste asertivní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Umíte otevřeně vyjadřovat své pocit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okážete druhému naslouchat, aniž byste mu skákali do řeči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Umíte druhého požádat o laskavos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okážete upřímně pochváli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Umíte samozřejmě vést rozhovor s neznámým člověke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Řeknete jasně ne, když si to myslít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okážete kritizovat konstruktivně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yjadřujete svůj hněv bez vybuchování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Jste schopni někomu říci, že ho máte rádi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Umíte se podělit o svou rados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okážete přijímat kritiku bez odvety nebo sebevýčitek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Základ aser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Calibri"/>
              </a:rPr>
              <a:t>jasná formulace cílů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Calibri"/>
              </a:rPr>
              <a:t>otevřená, nezáludná a přímá komunikac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Calibri"/>
              </a:rPr>
              <a:t>schopnost ukázat, že chápete pohled na věc, který zastává druhá strana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Calibri"/>
              </a:rPr>
              <a:t>schopnost neustupovat v podstatných věcech a jednat pružně tam, kde je to vhodné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Základní asertivní prá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ám posuzovat své vlastní chování, myšlenky a emoce a být za ně a jejich důsledky zodpovědn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enabízet žádné výmluvy či omluvy ospravedlňující tvé ch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osoudit zda a nakolik jsi odpovědný za řešení problémů ostatních lid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Změnit svůj náz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Dělat chyby a být za ně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zodpovědn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C:\Users\Lenka\Desktop\IL-asertivita.jpg"/>
          <p:cNvPicPr/>
          <p:nvPr/>
        </p:nvPicPr>
        <p:blipFill>
          <a:blip r:embed="rId1"/>
          <a:stretch/>
        </p:blipFill>
        <p:spPr>
          <a:xfrm>
            <a:off x="5943600" y="4000680"/>
            <a:ext cx="32004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Základní asertivní prá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6. Říci „Já nevím.“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7. Být nezávislý na dobré vůli ostatní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8. Dělat nelogická rozhodnut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9. Říci: „Já ti nerozumím.“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10. Říci: „Je mi to jedno.“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11. Sám rozhodnout, zda budeš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jednat asertivně nebo 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C:\Users\Lenka\Desktop\IL-asertivita.jpg"/>
          <p:cNvPicPr/>
          <p:nvPr/>
        </p:nvPicPr>
        <p:blipFill>
          <a:blip r:embed="rId1"/>
          <a:stretch/>
        </p:blipFill>
        <p:spPr>
          <a:xfrm>
            <a:off x="5943600" y="4000680"/>
            <a:ext cx="32004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Asertivita ve šk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Rozvíjení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komunikačních a sociálních dovednost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Posilování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sebeúc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Zlepšení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interpersonálních vztah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Učení dlouhodobě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efektivním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strategiím jedn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ozitivní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model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ch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Tvárnost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dětské psychiky (vliv škol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Učitel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: sděluje své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pocity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, umí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naslouchat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, jde mu 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spolupráci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, sebe i žáky pokládá za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hodnotné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lidské bytos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Lenka\Desktop\Empathy-Mouse340.jpg"/>
          <p:cNvPicPr/>
          <p:nvPr/>
        </p:nvPicPr>
        <p:blipFill>
          <a:blip r:embed="rId1"/>
          <a:stretch/>
        </p:blipFill>
        <p:spPr>
          <a:xfrm>
            <a:off x="1500120" y="1884240"/>
            <a:ext cx="6429600" cy="4973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Lenka\Desktop\Empathy Mirror.gif"/>
          <p:cNvPicPr/>
          <p:nvPr/>
        </p:nvPicPr>
        <p:blipFill>
          <a:blip r:embed="rId2"/>
          <a:stretch/>
        </p:blipFill>
        <p:spPr>
          <a:xfrm>
            <a:off x="1500120" y="285840"/>
            <a:ext cx="642960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Empat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760" y="142848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chopnost vcítění se, porozumění.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eznamená vždy souhlas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Empatie (pomáhá uvědomovat) namísto racionalizace (popření pocitů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Calibri"/>
              </a:rPr>
              <a:t>Např. Student vyhozený od zkoušky: „Už tam nikdy nepůjdu!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Calibri"/>
              </a:rPr>
              <a:t>Empatie: „Jsi zklamaný a máš vztek… To chápu.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Calibri"/>
              </a:rPr>
              <a:t>Racionalizace: „Jeden neúspěch tě přece neodradí.“ / „Měl ses víc učit.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C:\Users\Lenka\Desktop\empathy.jpg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Empatická reak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Dejte druhému najevo, že ho berete vážně a nezlehčujete jeho po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Umožněte mu, aby sám přišel na to, co má dělat – nedávejte nevyžádané rad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Zbytečně se nevyptávej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eobviňuj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Rozlište mezi projevy lítos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„To je mi líto.“) a empat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„To musí být těžké.“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Lenka\Desktop\509157.jpg"/>
          <p:cNvPicPr/>
          <p:nvPr/>
        </p:nvPicPr>
        <p:blipFill>
          <a:blip r:embed="rId1"/>
          <a:stretch/>
        </p:blipFill>
        <p:spPr>
          <a:xfrm>
            <a:off x="5334120" y="3591000"/>
            <a:ext cx="38098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C:\Users\Lenka\Desktop\348ba7caa4d2f0f3821b8eb5dcda897a.jpg"/>
          <p:cNvPicPr/>
          <p:nvPr/>
        </p:nvPicPr>
        <p:blipFill>
          <a:blip r:embed="rId1"/>
          <a:stretch/>
        </p:blipFill>
        <p:spPr>
          <a:xfrm>
            <a:off x="0" y="3429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rosociální ch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kutky a činy (pomoc, rozdělení se, spolupráce, finanční i materiální dary apod.) vykonané ve prospěch druhých, aniž by za to byla očekávána protislužba nebo odmě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Postkonvenční morálka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jednání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dle internalizovaných nore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morálních zásad (Kohlber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Obsahuje užší pomáhající ch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úprava společných záhonků × pomoc s taškami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C:\Users\Lenka\Desktop\p16moahr49vsrv3n19251c6r1hov0_53460.jpg"/>
          <p:cNvPicPr/>
          <p:nvPr/>
        </p:nvPicPr>
        <p:blipFill>
          <a:blip r:embed="rId1"/>
          <a:stretch/>
        </p:blipFill>
        <p:spPr>
          <a:xfrm>
            <a:off x="-714240" y="0"/>
            <a:ext cx="3743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Altruism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4272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z lat.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alter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druhý, 3. pád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altrui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druhém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esobecký způsob myšlení a jedn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ezištné jednání ve prospěch druhých lidí jako první princ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tikladem altruismu je egoism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Evoluční pohled na altriusm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f7f7f"/>
                </a:solidFill>
                <a:latin typeface="Calibri"/>
              </a:rPr>
              <a:t>KLÍČOVÁ SL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Calibri"/>
              </a:rPr>
              <a:t>asertivita</a:t>
            </a:r>
            <a:r>
              <a:rPr b="0" lang="cs-CZ" sz="3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cs-CZ" sz="3500" spc="-1" strike="noStrike">
                <a:solidFill>
                  <a:srgbClr val="000000"/>
                </a:solidFill>
                <a:latin typeface="Calibri"/>
              </a:rPr>
              <a:t>a zásady asertivního chování, empatie, empatická reakce, altruismus, prosociální chování, chyby (zlozvyky) v komunikaci, efektivní komunikace, pozitivní komunikace,</a:t>
            </a:r>
            <a:r>
              <a:rPr b="0" lang="cs-CZ" sz="3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cs-CZ" sz="3500" spc="-1" strike="noStrike">
                <a:solidFill>
                  <a:srgbClr val="000000"/>
                </a:solidFill>
                <a:latin typeface="Calibri"/>
              </a:rPr>
              <a:t>negativní komunikace s dětmi, „já“ výroky a „ty“ výroky, sebereflexe učitele, Johariho okno sebereflexe, zkreslování informací, neverbální komunikac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0" spc="-1" strike="noStrike">
                <a:solidFill>
                  <a:srgbClr val="000000"/>
                </a:solidFill>
                <a:latin typeface="Calibri"/>
              </a:rPr>
              <a:t>Efektivní, zdravá, funkční, kvalitní komunikace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C:\Users\Lenka\Desktop\people-talking1.jpg"/>
          <p:cNvPicPr/>
          <p:nvPr/>
        </p:nvPicPr>
        <p:blipFill>
          <a:blip r:embed="rId1"/>
          <a:stretch/>
        </p:blipFill>
        <p:spPr>
          <a:xfrm>
            <a:off x="2000160" y="30481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Efektivní (zdravá) komunik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Bezprostřední reakce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– časté odkládání reakcí, mlčení a nereagování na situaci je nečiteln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Přizpůsobování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– pod stejnými slovy různí lidí chápou různé věci, nejde o názorovou nepevno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Aktivní naslouchání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– zájem o druhého, empat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Reciprocita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– všichni mají právo vyjádřit se stejnou měrou, potenciálně vyvážený dialo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Humor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– pomáhá fixovat obsahy, vyžaduje ale takt, odhad partnera, nejde o zesměšň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Efektivní (zdravá) komunik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Konzistence reakcí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– ne „kam vítr, tam plášť“, nekličkovat (pomluvy, intrikování, chameleonství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Pozitivní formulace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– negativní verbalizace vzbuzují negativní emoce,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přeznačk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Obecné akceptování názoru útočníka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– např. „Rozumím vám, svým způsobem máte pravdu, je možno to vidět i tímto způsobem…“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Doptávání se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, zpětná vaz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Ideálem není skrytá manipulace (výhra × prohra), ale asertivita (výhra × výhr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Efektivní (zdravá) komunik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e nadbytečné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kritice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! – vyvolává obranu, raději postupně než střádat a poté říct, zaměřit na situaci, nikoliv na osob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e nadbytečným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požadavkům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– vyvolávají panickou reakci typu „to nezvládnu“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e nadbytečnému vyjadřování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zklamání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– jen sdělit, nerozpitvávat, negeneralizovat (např. „Já vám tam věřil a vy jste mě TAK ZKLAMAL!“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75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ozitivní komunik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4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Calibri"/>
              </a:rPr>
              <a:t>Věc, problé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(ne: osoba, t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yhýbat se hodnocení a obviňován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soby – co špatného udělala, jaká j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(„Ty jsi ten hrnek rozbila, jsi nemehlo.“ </a:t>
            </a:r>
            <a:r>
              <a:rPr b="0" lang="cs-CZ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„Hrnek je rozbitý.“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cs-CZ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cs-CZ" sz="2600" spc="-1" strike="noStrike">
                <a:solidFill>
                  <a:srgbClr val="ff0000"/>
                </a:solidFill>
                <a:latin typeface="Calibri"/>
              </a:rPr>
              <a:t>Tady a te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(ne: nikdy, zase, pořád, vždycky…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Co se děje tady a teď, co se dá vyřeš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C:\Users\Lenka\Desktop\communication.jpg"/>
          <p:cNvPicPr/>
          <p:nvPr/>
        </p:nvPicPr>
        <p:blipFill>
          <a:blip r:embed="rId1"/>
          <a:stretch/>
        </p:blipFill>
        <p:spPr>
          <a:xfrm>
            <a:off x="5419800" y="0"/>
            <a:ext cx="37242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:\Users\Lenka\Desktop\communication.jpg"/>
          <p:cNvPicPr/>
          <p:nvPr/>
        </p:nvPicPr>
        <p:blipFill>
          <a:blip r:embed="rId1"/>
          <a:stretch/>
        </p:blipFill>
        <p:spPr>
          <a:xfrm>
            <a:off x="5419800" y="0"/>
            <a:ext cx="3724200" cy="2905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75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ozitivní komunik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649"/>
              </a:spcBef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Calibri"/>
              </a:rPr>
              <a:t>Spoluúčast druhé stran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(neřešit vše sami a hned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ibrat k řešení zainteresovanou stran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Současně to děti učí způsobům řešení problémů a konfliktů a vede je to ke zodpovědnos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(„Co s tím uděláš?“, „Co navrhuješ jako řešení?“, „Co s tím?“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spcBef>
                <a:spcPts val="649"/>
              </a:spcBef>
              <a:buClr>
                <a:srgbClr val="ff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Calibri"/>
              </a:rPr>
              <a:t>Co děl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(ne: nedělej, nesmíš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Jestliže říkáme, co nemá dělat, nemusí být jasné, co dělat m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(„Neběhej!“ </a:t>
            </a:r>
            <a:r>
              <a:rPr b="0" lang="cs-CZ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„Tady je třeba jít pomalu.“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:\Users\Lenka\Desktop\communication.jpg"/>
          <p:cNvPicPr/>
          <p:nvPr/>
        </p:nvPicPr>
        <p:blipFill>
          <a:blip r:embed="rId1"/>
          <a:stretch/>
        </p:blipFill>
        <p:spPr>
          <a:xfrm>
            <a:off x="5419800" y="0"/>
            <a:ext cx="3724200" cy="29052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75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ozitivní komunik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ff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Calibri"/>
              </a:rPr>
              <a:t>Oznamovací vě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(ne: rozkazovací způsob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íkazy a zákazy odklánějí pozorno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d podstaty věci k řešení vztahu s osobou, která je dáv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ozkazy a pokyny lze nahradit zejména popisem a informace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571680" y="4500720"/>
            <a:ext cx="838080" cy="1809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3"/>
          <a:stretch/>
        </p:blipFill>
        <p:spPr>
          <a:xfrm>
            <a:off x="2571840" y="5429160"/>
            <a:ext cx="407880" cy="881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4"/>
          <a:stretch/>
        </p:blipFill>
        <p:spPr>
          <a:xfrm>
            <a:off x="1571760" y="4923000"/>
            <a:ext cx="642960" cy="1387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5"/>
          <a:stretch/>
        </p:blipFill>
        <p:spPr>
          <a:xfrm>
            <a:off x="6143760" y="4500720"/>
            <a:ext cx="838080" cy="1809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6"/>
          <a:stretch/>
        </p:blipFill>
        <p:spPr>
          <a:xfrm>
            <a:off x="7429680" y="4500720"/>
            <a:ext cx="838080" cy="1809720"/>
          </a:xfrm>
          <a:prstGeom prst="rect">
            <a:avLst/>
          </a:prstGeom>
          <a:ln w="0">
            <a:noFill/>
          </a:ln>
        </p:spPr>
      </p:pic>
      <p:cxnSp>
        <p:nvCxnSpPr>
          <p:cNvPr id="109" name="Přímá spojovací šipka 11"/>
          <p:cNvCxnSpPr/>
          <p:nvPr/>
        </p:nvCxnSpPr>
        <p:spPr>
          <a:xfrm>
            <a:off x="1285560" y="4857840"/>
            <a:ext cx="429480" cy="3578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Přímá spojovací šipka 12"/>
          <p:cNvCxnSpPr/>
          <p:nvPr/>
        </p:nvCxnSpPr>
        <p:spPr>
          <a:xfrm>
            <a:off x="2142720" y="5214960"/>
            <a:ext cx="429480" cy="3578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Přímá spojovací šipka 16"/>
          <p:cNvCxnSpPr/>
          <p:nvPr/>
        </p:nvCxnSpPr>
        <p:spPr>
          <a:xfrm>
            <a:off x="6929280" y="4785840"/>
            <a:ext cx="572400" cy="25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headEnd len="med" type="arrow" w="med"/>
            <a:tailEnd len="med" type="triangle" w="med"/>
          </a:ln>
        </p:spPr>
      </p:cxnSp>
      <p:sp>
        <p:nvSpPr>
          <p:cNvPr id="112" name="Šipka doprava 17"/>
          <p:cNvSpPr/>
          <p:nvPr/>
        </p:nvSpPr>
        <p:spPr>
          <a:xfrm>
            <a:off x="3214800" y="5072040"/>
            <a:ext cx="271440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C:\Users\Lenka\Desktop\PhD\Vyuka\logopedi\komunikace\27097cs_CZI_communication.jpg"/>
          <p:cNvPicPr/>
          <p:nvPr/>
        </p:nvPicPr>
        <p:blipFill>
          <a:blip r:embed="rId1"/>
          <a:stretch/>
        </p:blipFill>
        <p:spPr>
          <a:xfrm>
            <a:off x="5486400" y="32004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„</a:t>
            </a: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já“ výroky a „ty“ výro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„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Já výroky“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= výroky v první osob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yjádření vlastních pocitů, potřeb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opis situ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opis důsledků pro mojí osob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Očekávání, přání do budouc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„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Ty výroky“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= výroky ve 2. osob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Obviň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Generaliz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yjádření moci a nadřazenos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Chyby (zlozvyky) v komunika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Uplatňují se hlavně, když jsme napjatí, podráždě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yjadřování pocitů oklik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ejasnost a nekonkrétno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eháněn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álepkování – nešika, hlupák, leno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ipisování úmyslu – hned očekáváme špatn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rojekce vlastních myšlenek a tendenc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erušování, skákání do řeč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Chybějící odezva – zpětná vazba, bez známky naslouchán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everbální odmítání – chybí zrakový kontakt at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C:\Users\Lenka\Desktop\bullhorn.gif"/>
          <p:cNvPicPr/>
          <p:nvPr/>
        </p:nvPicPr>
        <p:blipFill>
          <a:blip r:embed="rId1"/>
          <a:stretch/>
        </p:blipFill>
        <p:spPr>
          <a:xfrm>
            <a:off x="7500960" y="2500200"/>
            <a:ext cx="16430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32932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Učitel a jeho komunikační chyby</a:t>
            </a:r>
            <a:br>
              <a:rPr sz="4400"/>
            </a:b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Negativní komunikace s dět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yčítán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bviňován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učednické výrok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Srovnáván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Sarkasm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roroctv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ty-výroky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adřazeno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Generaliz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C:\Users\Lenka\Desktop\teacher-yelling.jpg"/>
          <p:cNvPicPr/>
          <p:nvPr/>
        </p:nvPicPr>
        <p:blipFill>
          <a:blip r:embed="rId1"/>
          <a:stretch/>
        </p:blipFill>
        <p:spPr>
          <a:xfrm>
            <a:off x="4572000" y="2071800"/>
            <a:ext cx="38988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Komunik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communicatio“ = „vespolné účastnění“, tedy nejen proudění informací a sdělování, ale též </a:t>
            </a:r>
            <a:r>
              <a:rPr b="0" lang="cs-CZ" sz="2900" spc="-1" strike="noStrike">
                <a:solidFill>
                  <a:srgbClr val="ff0000"/>
                </a:solidFill>
                <a:latin typeface="Calibri"/>
              </a:rPr>
              <a:t>sdílen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Užší pojetí: </a:t>
            </a:r>
            <a:r>
              <a:rPr b="0" lang="cs-CZ" sz="2900" spc="-1" strike="noStrike">
                <a:solidFill>
                  <a:srgbClr val="ff0000"/>
                </a:solidFill>
                <a:latin typeface="Calibri"/>
              </a:rPr>
              <a:t>Kdo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2900" spc="-1" strike="noStrike">
                <a:solidFill>
                  <a:srgbClr val="ff0000"/>
                </a:solidFill>
                <a:latin typeface="Calibri"/>
              </a:rPr>
              <a:t>co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2900" spc="-1" strike="noStrike">
                <a:solidFill>
                  <a:srgbClr val="ff0000"/>
                </a:solidFill>
                <a:latin typeface="Calibri"/>
              </a:rPr>
              <a:t>jak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2900" spc="-1" strike="noStrike">
                <a:solidFill>
                  <a:srgbClr val="ff0000"/>
                </a:solidFill>
                <a:latin typeface="Calibri"/>
              </a:rPr>
              <a:t>komu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2900" spc="-1" strike="noStrike">
                <a:solidFill>
                  <a:srgbClr val="ff0000"/>
                </a:solidFill>
                <a:latin typeface="Calibri"/>
              </a:rPr>
              <a:t>proč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, s jakým </a:t>
            </a:r>
            <a:r>
              <a:rPr b="0" lang="cs-CZ" sz="2900" spc="-1" strike="noStrike">
                <a:solidFill>
                  <a:srgbClr val="ff0000"/>
                </a:solidFill>
                <a:latin typeface="Calibri"/>
              </a:rPr>
              <a:t>záměrem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a s jakým </a:t>
            </a:r>
            <a:r>
              <a:rPr b="0" lang="cs-CZ" sz="2900" spc="-1" strike="noStrike">
                <a:solidFill>
                  <a:srgbClr val="ff0000"/>
                </a:solidFill>
                <a:latin typeface="Calibri"/>
              </a:rPr>
              <a:t>účinkem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něco říká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C:\Users\Lenka\Desktop\PhD\Vyuka\logopedi\komunikace\27097cs_CZI_communication.jpg"/>
          <p:cNvPicPr/>
          <p:nvPr/>
        </p:nvPicPr>
        <p:blipFill>
          <a:blip r:embed="rId1"/>
          <a:stretch/>
        </p:blipFill>
        <p:spPr>
          <a:xfrm>
            <a:off x="2928960" y="3643200"/>
            <a:ext cx="32148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C:\Users\Lenka\Desktop\teacher-yelling-e1329746372529.jpg"/>
          <p:cNvPicPr/>
          <p:nvPr/>
        </p:nvPicPr>
        <p:blipFill>
          <a:blip r:embed="rId1"/>
          <a:stretch/>
        </p:blipFill>
        <p:spPr>
          <a:xfrm>
            <a:off x="1285920" y="100008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0" spc="-1" strike="noStrike">
                <a:solidFill>
                  <a:srgbClr val="000000"/>
                </a:solidFill>
                <a:latin typeface="Calibri"/>
              </a:rPr>
              <a:t>NEVERBÁLNÍ KOMUNIKACE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C:\Users\Lenka\Desktop\non-verbal-communication-examples.jpg"/>
          <p:cNvPicPr/>
          <p:nvPr/>
        </p:nvPicPr>
        <p:blipFill>
          <a:blip r:embed="rId1"/>
          <a:stretch/>
        </p:blipFill>
        <p:spPr>
          <a:xfrm>
            <a:off x="2071800" y="2806560"/>
            <a:ext cx="500040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Neverbální komunik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00"/>
                </a:solidFill>
                <a:latin typeface="Calibri"/>
              </a:rPr>
              <a:t>Shakespeare: „Posunek, toť řeč sama.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ěkteré rysy neverbální komunikace jsou nezávislé na kultuře a způsobu života, jiné se naopak  objevují pouze v určitých skupinách nebo společnost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nohé výrazové prostředky si člověk neuvědomuje, vybavuje je bez záměru a nedovede je dobře kontrolov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DĚLENÍ = slova (7%) + tón hlasu (38%) + neverbál (55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ůležitost sebereflex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f7f7f"/>
                </a:solidFill>
                <a:latin typeface="Calibri"/>
              </a:rPr>
              <a:t>Populární konsekv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f7f7f"/>
                </a:solidFill>
                <a:latin typeface="Calibri"/>
              </a:rPr>
              <a:t>Rybí stisk ruky = neupřímnost,  nedostatek lidského tepla, odpor ke komunikaci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f7f7f"/>
                </a:solidFill>
                <a:latin typeface="Calibri"/>
              </a:rPr>
              <a:t>Pozdrav obouruč = srdečnost, nebo majetnické sklo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f7f7f"/>
                </a:solidFill>
                <a:latin typeface="Calibri"/>
              </a:rPr>
              <a:t>Přitahování ruky = úzkostlivé oso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f7f7f"/>
                </a:solidFill>
                <a:latin typeface="Calibri"/>
              </a:rPr>
              <a:t>Stisk a poplácání ramena = předstírá srdečnost, ale ukazuje odstup a zasahuje do osobní zó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f7f7f"/>
                </a:solidFill>
                <a:latin typeface="Calibri"/>
              </a:rPr>
              <a:t>Populární konsekv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f7f7f"/>
                </a:solidFill>
                <a:latin typeface="Calibri"/>
              </a:rPr>
              <a:t>Třít si oko…                        </a:t>
            </a:r>
            <a:r>
              <a:rPr b="1" lang="cs-CZ" sz="1600" spc="-1" strike="noStrike">
                <a:solidFill>
                  <a:srgbClr val="7f7f7f"/>
                </a:solidFill>
                <a:latin typeface="Calibri"/>
              </a:rPr>
              <a:t>je to ukrutná lež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f7f7f"/>
                </a:solidFill>
                <a:latin typeface="Calibri"/>
              </a:rPr>
              <a:t>Třít si bradu…                   </a:t>
            </a:r>
            <a:r>
              <a:rPr b="1" lang="cs-CZ" sz="1600" spc="-1" strike="noStrike">
                <a:solidFill>
                  <a:srgbClr val="7f7f7f"/>
                </a:solidFill>
                <a:latin typeface="Calibri"/>
              </a:rPr>
              <a:t>  zvažuju situaci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f7f7f"/>
                </a:solidFill>
                <a:latin typeface="Calibri"/>
              </a:rPr>
              <a:t>Škrábat si hlavu…             </a:t>
            </a:r>
            <a:r>
              <a:rPr b="1" lang="cs-CZ" sz="1600" spc="-1" strike="noStrike">
                <a:solidFill>
                  <a:srgbClr val="7f7f7f"/>
                </a:solidFill>
                <a:latin typeface="Calibri"/>
              </a:rPr>
              <a:t>nejsem si jist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f7f7f"/>
                </a:solidFill>
                <a:latin typeface="Calibri"/>
              </a:rPr>
              <a:t>Škrábat se za uchem…     </a:t>
            </a:r>
            <a:r>
              <a:rPr b="1" lang="cs-CZ" sz="1600" spc="-1" strike="noStrike">
                <a:solidFill>
                  <a:srgbClr val="7f7f7f"/>
                </a:solidFill>
                <a:latin typeface="Calibri"/>
              </a:rPr>
              <a:t>zacpal bych si uši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f7f7f"/>
                </a:solidFill>
                <a:latin typeface="Calibri"/>
              </a:rPr>
              <a:t>Uvolňovat si límec…        </a:t>
            </a:r>
            <a:r>
              <a:rPr b="1" lang="cs-CZ" sz="1600" spc="-1" strike="noStrike">
                <a:solidFill>
                  <a:srgbClr val="7f7f7f"/>
                </a:solidFill>
                <a:latin typeface="Calibri"/>
              </a:rPr>
              <a:t>jak se vymanit z tlaku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f7f7f"/>
                </a:solidFill>
                <a:latin typeface="Calibri"/>
              </a:rPr>
              <a:t>Bubnování prsty…            </a:t>
            </a:r>
            <a:r>
              <a:rPr b="1" lang="cs-CZ" sz="1600" spc="-1" strike="noStrike">
                <a:solidFill>
                  <a:srgbClr val="7f7f7f"/>
                </a:solidFill>
                <a:latin typeface="Calibri"/>
              </a:rPr>
              <a:t>jsem hrozně netrpělivý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f7f7f"/>
                </a:solidFill>
                <a:latin typeface="Calibri"/>
              </a:rPr>
              <a:t>Ukazování prstem …        </a:t>
            </a:r>
            <a:r>
              <a:rPr b="1" lang="cs-CZ" sz="1600" spc="-1" strike="noStrike">
                <a:solidFill>
                  <a:srgbClr val="7f7f7f"/>
                </a:solidFill>
                <a:latin typeface="Calibri"/>
              </a:rPr>
              <a:t>kritičnost, uzavírán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pozice u stolu"/>
          <p:cNvPicPr/>
          <p:nvPr/>
        </p:nvPicPr>
        <p:blipFill>
          <a:blip r:embed="rId1"/>
          <a:stretch/>
        </p:blipFill>
        <p:spPr>
          <a:xfrm>
            <a:off x="1000080" y="0"/>
            <a:ext cx="70722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Složky neverbální komunik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roxemi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prostorové chování, teritorium, intimní – osobní – společenská – sociální zó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Hapti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komunikace prostřednictvím doteků, profesionální, konvenční, přátelské, intimní, nepřátelsk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osturologi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poloha / držení těla, ruce v kapsách, zkřížené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imika (pohyby obličejových svalů, pravost, emoce, zaujet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Gesti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spontánní pohyb části těla, kulturní odlišnost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Kinezi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Všechny kruhy pohybů různých částí těla, rozsah, počet, soul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Oční kontak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průměr 3s, přátelskost, (ne)příjmenost, 50% při rozhovoru, vyhýbavý – těkavý – hodnotící – přátelský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Chronemi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chování v čase, příchod na místo, doba telefonátů, odpovědí na e-mail, ovlivňuje komunikac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ScanImage"/>
          <p:cNvPicPr/>
          <p:nvPr/>
        </p:nvPicPr>
        <p:blipFill>
          <a:blip r:embed="rId1"/>
          <a:stretch/>
        </p:blipFill>
        <p:spPr>
          <a:xfrm>
            <a:off x="-380880" y="0"/>
            <a:ext cx="7086600" cy="4724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tvare2"/>
          <p:cNvPicPr/>
          <p:nvPr/>
        </p:nvPicPr>
        <p:blipFill>
          <a:blip r:embed="rId2"/>
          <a:srcRect l="3666" t="2414" r="0" b="0"/>
          <a:stretch/>
        </p:blipFill>
        <p:spPr>
          <a:xfrm>
            <a:off x="2057400" y="3095640"/>
            <a:ext cx="70866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Rozdíl v interpretaci g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1488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rfekt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xuální naráž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y nu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ní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ahodné (jídl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gesto 1"/>
          <p:cNvPicPr/>
          <p:nvPr/>
        </p:nvPicPr>
        <p:blipFill>
          <a:blip r:embed="rId1"/>
          <a:stretch/>
        </p:blipFill>
        <p:spPr>
          <a:xfrm>
            <a:off x="500040" y="1643040"/>
            <a:ext cx="3672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Význam sebereflex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ebereflexe = přemýšlení o sob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escartes „cogito ergo sum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ede a hodnotí vlastní jedn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voboda a spolehliv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předpokladem zodpovědnosti, eti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pakem je nepříčetnost, nesvépráv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esta k profesnímu sebeobraz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apitulace a didaktická analý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ždodenní bilancování × dlouhodobé sebepoje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hyby: neúplné interpretace, emoční předpojetí, přehnané nároky na sebe sama a podlehnutí dílčím neúspěch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Obrázek 3" descr="C:\Users\Lenka\Desktop\magritte2.jpg"/>
          <p:cNvPicPr/>
          <p:nvPr/>
        </p:nvPicPr>
        <p:blipFill>
          <a:blip r:embed="rId1"/>
          <a:stretch/>
        </p:blipFill>
        <p:spPr>
          <a:xfrm>
            <a:off x="6367320" y="0"/>
            <a:ext cx="27766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4 typy komunik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004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Pasivi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ákladní rys: přizpůsobivost požadavkům druhý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působy: bezbrannost, ustupování, vyhýbání se konfliktů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ůvod: závislost na druhých a jejich hodnoc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Agresivi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ákladní rys: prosazování na úkor jiný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působy: obviňování okolí, nátlak, moralizová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ůvod: skrytá potřeba zvýšení sebevědom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Manipul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ákladní rys: sleduje cíl nepří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působy: vyvolávání pocitů viny, lichocení, apely na morálk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ůvod: sobectví, potřeba zvýšit si sebevědomí, vnitřní prázdno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Asertivi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ákladní rys: přímé, otevřené, sebevědomé, klid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působy: respektující sebe i druhého, kompromis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ůvod: úcta k sobě i druhým, čestnost a odva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C:\Users\Lenka\Desktop\PhD\Vyuka\pajdák\etel\223_d153b8e69216f9b3d7e605ea5afb8951.png"/>
          <p:cNvPicPr/>
          <p:nvPr/>
        </p:nvPicPr>
        <p:blipFill>
          <a:blip r:embed="rId1"/>
          <a:stretch/>
        </p:blipFill>
        <p:spPr>
          <a:xfrm>
            <a:off x="1785960" y="1857240"/>
            <a:ext cx="5248080" cy="35053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Johariho ok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57120" y="1356840"/>
            <a:ext cx="842976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Joseph Luft, Harry Ingham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1955, US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jadřuje vzájemnou vazbu mezi intrapersonálními a interpersonálními dě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. Veřejná oblast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způsoby chování a motivaci, která je známá nám i ostatní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2. Slepá oblast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vlastnosti, o kt. já nevím, ale jsou viditelné z pohledu druhý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3. Skrytá oblast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já o něčem vím, ale před ostatními se to snažím z různých příčin skrývat (např. moje intimní záležitost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4. Neznámá oblast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jisté skutečnosti nejsou známe mě ani ostatním lid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400" y="1499760"/>
            <a:ext cx="825804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0" spc="-1" strike="noStrike">
                <a:solidFill>
                  <a:srgbClr val="000000"/>
                </a:solidFill>
                <a:latin typeface="Calibri"/>
              </a:rPr>
              <a:t>Zkreslování</a:t>
            </a: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cs-CZ" sz="10000" spc="-1" strike="noStrike">
                <a:solidFill>
                  <a:srgbClr val="000000"/>
                </a:solidFill>
                <a:latin typeface="Calibri"/>
              </a:rPr>
              <a:t>informací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Komunik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26"/>
                </a:solidFill>
                <a:latin typeface="Calibri"/>
              </a:rPr>
              <a:t>Jak si ji představuje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lipsa 4"/>
          <p:cNvSpPr/>
          <p:nvPr/>
        </p:nvSpPr>
        <p:spPr>
          <a:xfrm>
            <a:off x="642960" y="3071880"/>
            <a:ext cx="2286000" cy="2286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Calibri"/>
              </a:rPr>
              <a:t>Mluvčí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Calibri"/>
              </a:rPr>
              <a:t>(auto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lipsa 6"/>
          <p:cNvSpPr/>
          <p:nvPr/>
        </p:nvSpPr>
        <p:spPr>
          <a:xfrm>
            <a:off x="6215040" y="3071880"/>
            <a:ext cx="2286000" cy="2286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Calibri"/>
              </a:rPr>
              <a:t>Příjemc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Calibri"/>
              </a:rPr>
              <a:t>(čtenář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Šipka doprava 9"/>
          <p:cNvSpPr/>
          <p:nvPr/>
        </p:nvSpPr>
        <p:spPr>
          <a:xfrm>
            <a:off x="3071880" y="3857760"/>
            <a:ext cx="3000240" cy="8571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sdě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Komunik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26"/>
                </a:solidFill>
                <a:latin typeface="Calibri"/>
              </a:rPr>
              <a:t>Jak to fungu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lipsa 4"/>
          <p:cNvSpPr/>
          <p:nvPr/>
        </p:nvSpPr>
        <p:spPr>
          <a:xfrm>
            <a:off x="642960" y="3071880"/>
            <a:ext cx="2286000" cy="2286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Calibri"/>
              </a:rPr>
              <a:t>Mluvčí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Calibri"/>
              </a:rPr>
              <a:t>(auto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lipsa 6"/>
          <p:cNvSpPr/>
          <p:nvPr/>
        </p:nvSpPr>
        <p:spPr>
          <a:xfrm>
            <a:off x="6215040" y="3071880"/>
            <a:ext cx="2286000" cy="2286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Calibri"/>
              </a:rPr>
              <a:t>Příjemc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Calibri"/>
              </a:rPr>
              <a:t>(čtenář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Šipka doprava 9"/>
          <p:cNvSpPr/>
          <p:nvPr/>
        </p:nvSpPr>
        <p:spPr>
          <a:xfrm>
            <a:off x="3071880" y="3857760"/>
            <a:ext cx="17143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sdě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8"/>
          <p:cNvSpPr/>
          <p:nvPr/>
        </p:nvSpPr>
        <p:spPr>
          <a:xfrm flipH="1">
            <a:off x="4785840" y="642960"/>
            <a:ext cx="1800" cy="6000840"/>
          </a:xfrm>
          <a:prstGeom prst="line">
            <a:avLst/>
          </a:prstGeom>
          <a:ln w="136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Přímá spojovací šipka 11"/>
          <p:cNvCxnSpPr/>
          <p:nvPr/>
        </p:nvCxnSpPr>
        <p:spPr>
          <a:xfrm flipV="1">
            <a:off x="4714560" y="1785600"/>
            <a:ext cx="3715560" cy="235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Přímá spojovací šipka 13"/>
          <p:cNvCxnSpPr/>
          <p:nvPr/>
        </p:nvCxnSpPr>
        <p:spPr>
          <a:xfrm>
            <a:off x="4643280" y="4285800"/>
            <a:ext cx="3858480" cy="200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Přímá spojovací šipka 15"/>
          <p:cNvCxnSpPr/>
          <p:nvPr/>
        </p:nvCxnSpPr>
        <p:spPr>
          <a:xfrm flipV="1">
            <a:off x="4714920" y="3571920"/>
            <a:ext cx="15724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1" name="Pravoúhlá spojovací čára 17"/>
          <p:cNvCxnSpPr/>
          <p:nvPr/>
        </p:nvCxnSpPr>
        <p:spPr>
          <a:xfrm>
            <a:off x="4714920" y="4285800"/>
            <a:ext cx="2358000" cy="135828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2" name="Přímá spojovací šipka 19"/>
          <p:cNvCxnSpPr/>
          <p:nvPr/>
        </p:nvCxnSpPr>
        <p:spPr>
          <a:xfrm flipV="1">
            <a:off x="4714920" y="856440"/>
            <a:ext cx="357840" cy="3358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3" name="Přímá spojovací šipka 21"/>
          <p:cNvCxnSpPr/>
          <p:nvPr/>
        </p:nvCxnSpPr>
        <p:spPr>
          <a:xfrm flipV="1">
            <a:off x="4714560" y="3999960"/>
            <a:ext cx="142956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4" name="Přímá spojovací šipka 23"/>
          <p:cNvCxnSpPr/>
          <p:nvPr/>
        </p:nvCxnSpPr>
        <p:spPr>
          <a:xfrm>
            <a:off x="4785840" y="4214520"/>
            <a:ext cx="13582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5" name="Přímá spojovací šipka 25"/>
          <p:cNvCxnSpPr/>
          <p:nvPr/>
        </p:nvCxnSpPr>
        <p:spPr>
          <a:xfrm>
            <a:off x="4786200" y="4286160"/>
            <a:ext cx="1858320" cy="221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6" name="Přímá spojovací šipka 27"/>
          <p:cNvCxnSpPr/>
          <p:nvPr/>
        </p:nvCxnSpPr>
        <p:spPr>
          <a:xfrm flipV="1">
            <a:off x="7571160" y="2428200"/>
            <a:ext cx="2520" cy="572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7" name="Přímá spojovací šipka 28"/>
          <p:cNvCxnSpPr/>
          <p:nvPr/>
        </p:nvCxnSpPr>
        <p:spPr>
          <a:xfrm flipH="1" flipV="1">
            <a:off x="5143320" y="1285560"/>
            <a:ext cx="2581920" cy="1867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8" name="Přímá spojovací šipka 30"/>
          <p:cNvCxnSpPr/>
          <p:nvPr/>
        </p:nvCxnSpPr>
        <p:spPr>
          <a:xfrm flipV="1">
            <a:off x="7786800" y="2214360"/>
            <a:ext cx="2160" cy="786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9" name="Přímá spojovací šipka 31"/>
          <p:cNvCxnSpPr/>
          <p:nvPr/>
        </p:nvCxnSpPr>
        <p:spPr>
          <a:xfrm flipV="1">
            <a:off x="7929720" y="2142720"/>
            <a:ext cx="2160" cy="1000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0" name="Přímá spojovací šipka 32"/>
          <p:cNvCxnSpPr/>
          <p:nvPr/>
        </p:nvCxnSpPr>
        <p:spPr>
          <a:xfrm flipV="1">
            <a:off x="8071200" y="2071080"/>
            <a:ext cx="2520" cy="121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1" name="Přímá spojovací šipka 33"/>
          <p:cNvCxnSpPr/>
          <p:nvPr/>
        </p:nvCxnSpPr>
        <p:spPr>
          <a:xfrm flipV="1">
            <a:off x="8214120" y="1999440"/>
            <a:ext cx="2520" cy="1358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2" name="Přímá spojovací šipka 39"/>
          <p:cNvCxnSpPr/>
          <p:nvPr/>
        </p:nvCxnSpPr>
        <p:spPr>
          <a:xfrm flipH="1">
            <a:off x="6214680" y="3356640"/>
            <a:ext cx="286560" cy="214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3" name="Přímá spojovací šipka 42"/>
          <p:cNvCxnSpPr/>
          <p:nvPr/>
        </p:nvCxnSpPr>
        <p:spPr>
          <a:xfrm>
            <a:off x="8143920" y="5071680"/>
            <a:ext cx="72000" cy="1072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4" name="Přímá spojovací šipka 44"/>
          <p:cNvCxnSpPr/>
          <p:nvPr/>
        </p:nvCxnSpPr>
        <p:spPr>
          <a:xfrm>
            <a:off x="8286840" y="5000400"/>
            <a:ext cx="714960" cy="143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5" name="Přímá spojovací šipka 46"/>
          <p:cNvCxnSpPr/>
          <p:nvPr/>
        </p:nvCxnSpPr>
        <p:spPr>
          <a:xfrm>
            <a:off x="8501040" y="4142880"/>
            <a:ext cx="64332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6" name="Přímá spojovací šipka 48"/>
          <p:cNvCxnSpPr/>
          <p:nvPr/>
        </p:nvCxnSpPr>
        <p:spPr>
          <a:xfrm flipV="1">
            <a:off x="6714000" y="2499480"/>
            <a:ext cx="2520" cy="786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Co vstupuje do hry?</a:t>
            </a:r>
            <a:br>
              <a:rPr sz="4400"/>
            </a:b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99680" y="1428840"/>
            <a:ext cx="4357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lita inform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dsud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tereoty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svědč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zorová struk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sto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yzický sta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iologické dispoz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působ ře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lita smysl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ástupný symbol pro obsah 2"/>
          <p:cNvSpPr/>
          <p:nvPr/>
        </p:nvSpPr>
        <p:spPr>
          <a:xfrm>
            <a:off x="4143240" y="1285920"/>
            <a:ext cx="478656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Ún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tuální rozpolo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traktivita mluvčí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ztah komun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ě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yziologické asp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ědom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ůvěryhodnost mluvčí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 mnoho dalšíh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C:\Users\Lenka\Desktop\komunikace.gif"/>
          <p:cNvPicPr/>
          <p:nvPr/>
        </p:nvPicPr>
        <p:blipFill>
          <a:blip r:embed="rId1"/>
          <a:stretch/>
        </p:blipFill>
        <p:spPr>
          <a:xfrm>
            <a:off x="5214960" y="0"/>
            <a:ext cx="3929040" cy="17859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Informační šu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42884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ŠUM je cokoliv, co interferuje s příjmem sdělení. V extrémním případě může zcela zabránit přenosu inform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FYZICKÝ ŠUM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: rušivý vliv pocházející ze zdrojů mimo mluvčího a posluchače, který narušuje komunikaci (projíždějící auta, sluneční brýle, nečitelný rukopis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FYZIOLOGICKÝ ŠUM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: fyziologické bariéry (vady sluchu, vady řeči, ztráta paměti, únava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PSYCHOLOGICKÝ ŠUM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: mentální interference (předsudky, emotivita, uzavřenost, psychické problémy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SÉMANTICKÝ ŠUM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: rozdílné významové systémy mluvčího a posluchače (dialekty, složitá terminologie, dvojjazyčnost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rizma subjektivní percep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0040" y="142884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rizma = hranol, obvykle skleněný, rozkládající dopadající světlo; podmínky určující způsob pohledu, hledisk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Stejně jako se světlo láme o hranol a vznikají tak barvy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i dopad sdělovaného má tolik výkladů, kolik je posluchač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C:\Users\Lenka\Desktop\05_A-The-Prism.gif"/>
          <p:cNvPicPr/>
          <p:nvPr/>
        </p:nvPicPr>
        <p:blipFill>
          <a:blip r:embed="rId1"/>
          <a:stretch/>
        </p:blipFill>
        <p:spPr>
          <a:xfrm>
            <a:off x="1071720" y="3000240"/>
            <a:ext cx="70722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Techni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00040" y="142884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čet lidí: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ůběh: 1 zůstane ve třídě, 4 půjdou za dveř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nímu přečtu krátký úryvek informace z novin s tím, aby si z něj zapamatoval co nejvíce relevantních informací a informoval poté o něm prvního příchozíh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stupně vejdou všichni 4, co byli původně za dveřmi, informaci předává vždy ten, komu byla sděle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Á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prvnímu, první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druhému, druhý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třetímu, třetí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čtvrtému, čtvrtý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páté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átý poté zprávu z novin převykládá před tříd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Došlo k nějakému zkreslení? Proč? Kde nastal zlo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4" descr="C:\Users\Lenka\Desktop\communicate.png"/>
          <p:cNvPicPr/>
          <p:nvPr/>
        </p:nvPicPr>
        <p:blipFill>
          <a:blip r:embed="rId1"/>
          <a:stretch/>
        </p:blipFill>
        <p:spPr>
          <a:xfrm>
            <a:off x="5456160" y="0"/>
            <a:ext cx="36878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Techni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0040" y="142884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čet lidí: celá tří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ůběh: Přečtu vám krátkou zprávu o události. Pokuste se z ní zapamatovat co nejvíce FAKT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PRÁV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ff0000"/>
                </a:solidFill>
                <a:latin typeface="Calibri"/>
              </a:rPr>
              <a:t>Vysokoškolský učitel právě dokončil přípravu závěrečných zkoušek a zhasl světla ve své kanceláři. V tom se objevila vysoká, rozložitá postava s tmavými brýlemi a požadovala vyzkoušení. Profesor otevřel zásuvku. Zásuvka byla úplně prázdná a individuum utíkalo po chodbě pryč. O události byl neprodleně informován děka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C:\Users\Lenka\Desktop\communicate.png"/>
          <p:cNvPicPr/>
          <p:nvPr/>
        </p:nvPicPr>
        <p:blipFill>
          <a:blip r:embed="rId1"/>
          <a:stretch/>
        </p:blipFill>
        <p:spPr>
          <a:xfrm>
            <a:off x="5931000" y="0"/>
            <a:ext cx="32130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Techni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00040" y="142884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yní přečtu 10 tvr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apište si čísla těch, která odpovídají skutečnosti DLE PŘEČTENÍ ZPRÁVY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VRZENÍ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Zloděj byl vysoký, rozložitý a měl tmavé brý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Profesor zhasl světl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Nějaký vysoký člověk požadoval vyzkoušen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Zkušební otázky vzal někdo ze zásuvk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Zkušební otázky vzal ze zásuvky profes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Poté, co profesor zhasl světla v kanceláři, objevila se vysoká, rozložitá postav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Ten, kdo otevřel zásuvku, byl profes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Profesor utíkal po chodbě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Zásuvka ve skutečnosti nebyla vůbec otevře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V této zprávě se hovoří o třech osobá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4" descr="C:\Users\Lenka\Desktop\communicate.png"/>
          <p:cNvPicPr/>
          <p:nvPr/>
        </p:nvPicPr>
        <p:blipFill>
          <a:blip r:embed="rId1"/>
          <a:stretch/>
        </p:blipFill>
        <p:spPr>
          <a:xfrm>
            <a:off x="5931000" y="0"/>
            <a:ext cx="32130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Žák ve třídě, kterou učíte, je na vás hrubý. Řekne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ováku, koukej zalézt zpátky pod kám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o Pavle, to nebylo od tebe hezké, co myslíš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avle, já na tebe takhle nemluvím a nechci, aby tak někdo mluvil na mě. Už to nedělej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ěkdo, koho jsem přistihl, jak kouří během polední přestávky by si měl dávat pozor na jazyk, protože by se o tom kouření mohl dozvědět ředitel.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Fakta a dedukce (diskuz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aký je rozdíl mezi fakty a dedukcem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kterých případech většina třídy označila dedukci za fak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teré z tvrzení bylo nejspornější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čem mohou být dedukce ohrožující a v čem naopak přínosné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4" descr="C:\Users\Lenka\Desktop\images.jpg"/>
          <p:cNvPicPr/>
          <p:nvPr/>
        </p:nvPicPr>
        <p:blipFill>
          <a:blip r:embed="rId1"/>
          <a:stretch/>
        </p:blipFill>
        <p:spPr>
          <a:xfrm>
            <a:off x="6215040" y="4916520"/>
            <a:ext cx="29289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enka.Sramkova@upol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C:\Users\Lenka\Desktop\Nákupní-předsudky-1.-část-250x250.jpg"/>
          <p:cNvPicPr/>
          <p:nvPr/>
        </p:nvPicPr>
        <p:blipFill>
          <a:blip r:embed="rId2"/>
          <a:stretch/>
        </p:blipFill>
        <p:spPr>
          <a:xfrm>
            <a:off x="2832120" y="2695680"/>
            <a:ext cx="394812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Žák ve třídě, kterou učíte, je na vás hrubý. Řekne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ováku, koukej zalézt zpátky pod kámen </a:t>
            </a:r>
            <a:r>
              <a:rPr b="1" lang="cs-CZ" sz="3000" spc="-1" strike="noStrike">
                <a:solidFill>
                  <a:srgbClr val="ff0000"/>
                </a:solidFill>
                <a:latin typeface="Calibri"/>
              </a:rPr>
              <a:t>– A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o Pavle, to nebylo od tebe hezké, co myslíš? </a:t>
            </a:r>
            <a:r>
              <a:rPr b="1" lang="cs-CZ" sz="3000" spc="-1" strike="noStrike">
                <a:solidFill>
                  <a:srgbClr val="ff0000"/>
                </a:solidFill>
                <a:latin typeface="Calibri"/>
              </a:rPr>
              <a:t>– P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avle, já na tebe takhle nemluvím a nechci, aby tak někdo mluvil na mě. Už to nedělej. </a:t>
            </a:r>
            <a:r>
              <a:rPr b="1" lang="cs-CZ" sz="3000" spc="-1" strike="noStrike">
                <a:solidFill>
                  <a:srgbClr val="ff0000"/>
                </a:solidFill>
                <a:latin typeface="Calibri"/>
              </a:rPr>
              <a:t>– 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ěkdo, koho jsem přistihl, jak kouří během polední přestávky by si měl dávat pozor na jazyk, protože by se o tom kouření mohl dozvědět ředitel. </a:t>
            </a:r>
            <a:r>
              <a:rPr b="1" lang="cs-CZ" sz="3000" spc="-1" strike="noStrike">
                <a:solidFill>
                  <a:srgbClr val="ff0000"/>
                </a:solidFill>
                <a:latin typeface="Calibri"/>
              </a:rPr>
              <a:t>– MA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0" spc="-1" strike="noStrike">
                <a:solidFill>
                  <a:srgbClr val="000000"/>
                </a:solidFill>
                <a:latin typeface="Calibri"/>
              </a:rPr>
              <a:t>ASERTIVITA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C:\Users\Lenka\Desktop\asertivita_txt.jpg"/>
          <p:cNvPicPr/>
          <p:nvPr/>
        </p:nvPicPr>
        <p:blipFill>
          <a:blip r:embed="rId1"/>
          <a:stretch/>
        </p:blipFill>
        <p:spPr>
          <a:xfrm>
            <a:off x="2214720" y="2000160"/>
            <a:ext cx="46958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Asertivi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150012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to umění prosadit se a zároveň respektovat potřeby druhý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máhá ke spolupráci s ostatní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namená to také, že uznáváme právo druhého na jeho náz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sertivita obsahuje základní postupy otevřené, věcné a zároveň spontánní, empatické komunik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násilně projevené sebevědomí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á mám svojí cenu – Ty máš svoji ce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sertivní komunikace: zdravá schopnost a dovednost autoprezentace během sociální komunikace, sebeprosazování při zachovávání slušnosti, taktu a zdvořilost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Kdy je vhodná asertivi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 zvládání konflikt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 jedn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 vedení a motivování lid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 poskytování a přijímání zpětné vaz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 spoluprá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 vystupování na poradá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2:37:41Z</dcterms:created>
  <dc:creator>Lenka Sramkova</dc:creator>
  <dc:description/>
  <dc:language>en-US</dc:language>
  <cp:lastModifiedBy>Uzivatel</cp:lastModifiedBy>
  <dcterms:modified xsi:type="dcterms:W3CDTF">2013-01-02T10:55:09Z</dcterms:modified>
  <cp:revision>160</cp:revision>
  <dc:subject/>
  <dc:title>Snímek 1</dc:title>
</cp:coreProperties>
</file>