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1D0-8A02-4AEC-B746-1C21AEA3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4A5-30C7-47E6-BF9A-AB659E5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A6E-0426-4A86-AC75-8DC0911D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1AE-D369-4FC8-91CA-0D791DCC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C58-2E63-4B63-8800-ABC0C25B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FC0-A1DF-40A1-AE98-177FD49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5F4-2C38-43F8-9694-6FFDB47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DA2-9722-496F-91E9-EDAAB010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565-79D6-4F66-BE31-987FCA1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037-50AD-4B43-A8DD-A7CA429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C23-E24C-40A6-89E0-DE1CAB32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E4C-4886-4667-8B1D-2C3619A6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915-CD49-4702-ABA8-9F562A23C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Lenka.Sramkova@upol.cz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enka\Desktop\Brain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71388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sychologie pro učitele</a:t>
            </a:r>
            <a:br>
              <a:rPr sz="4000"/>
            </a:br>
            <a:br>
              <a:rPr sz="4000"/>
            </a:br>
            <a:r>
              <a:rPr b="0" lang="cs-CZ" sz="5000" spc="-1" strike="noStrike">
                <a:solidFill>
                  <a:srgbClr val="ff0000"/>
                </a:solidFill>
                <a:latin typeface="Calibri"/>
              </a:rPr>
              <a:t>Paměť jako podmínka učení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2880" y="5000760"/>
            <a:ext cx="471492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12. 11.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gr. Lenka Šrám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nka\Desktop\the-power-of-the-memory-molecule_1.jpg"/>
          <p:cNvPicPr/>
          <p:nvPr/>
        </p:nvPicPr>
        <p:blipFill>
          <a:blip r:embed="rId1"/>
          <a:stretch/>
        </p:blipFill>
        <p:spPr>
          <a:xfrm>
            <a:off x="5079960" y="385776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rátkodobá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: podržení informací, které aktuálně potřebujeme k psychickým aktivitá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Např. telefonní číslo, zadání slovní úlo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Délka zapamatován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15 – 30 sek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Kapacita krátkodobé paměti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George Mi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7 +/- 2 CHU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hunks mohou být i složité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ole smyslupl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amatujte si následující seznam slabi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ED – RON – IK – DON – EM – ÁR – Á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ff0000"/>
                </a:solidFill>
                <a:latin typeface="Calibri"/>
              </a:rPr>
              <a:t>VEDRO     NIKDO     NEMÁ     RÁD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amatujte si následující slo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hod, jaro, podzim, dorzální, západ, mediální, zima, laterální, sever, ventrální, léto, ji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světové strany, roční období, anatomické smě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Mnemotechnické pomů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skupují do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chu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nadňují převod do dlouhodobé pamě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l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énii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sní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stou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ě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etři se Os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PR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téria kvalitní odpovědi v internetovém poradenství – podporující, respektující, seriózní, angažova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 novosti a primár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abule – Mrak – Kniha – Strom – Sukně – Kočka – Světlo – Lavička – Kří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novosti (recency effect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lépe se pamatují slova na konci sezn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primárnosti (primacy effect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lépe se pamatují slova na začátku sezn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áteční slova se uložila do dlouhodobé paměti, slova z konce jsou dosud v krátkodob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délky slov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lépe se pamatují slova krát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81360" y="2476440"/>
            <a:ext cx="4562640" cy="4381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acovní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obsah 2"/>
          <p:cNvSpPr/>
          <p:nvPr/>
        </p:nvSpPr>
        <p:spPr>
          <a:xfrm>
            <a:off x="285840" y="1500120"/>
            <a:ext cx="51433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časné uchování nejen informací ze smyslů, ale také data z dlouhodobé pamě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ádění mentálních opera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matematické slovní úl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louhodobá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tivně pasivní komponenta paměti sloužící k uskladnění obrovského množstv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omezenou kapaci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kládání memorováním (např. násobil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ezděčné × Záměrné uklád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chování na dlouhou dob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ěkdy na celý živo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e nejspíše ne nezmě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Lenka\Desktop\memoryy.jpg"/>
          <p:cNvPicPr/>
          <p:nvPr/>
        </p:nvPicPr>
        <p:blipFill>
          <a:blip r:embed="rId1"/>
          <a:stretch/>
        </p:blipFill>
        <p:spPr>
          <a:xfrm>
            <a:off x="6286680" y="4010040"/>
            <a:ext cx="2857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eklarativní – knowing what – explicit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chovává data v té podobě, ve které byla vštíp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pomínky na životní události a faktické zna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Kdo byl prvním prezidentem ČR?, Jak se anglicky řekne byt?, Kde jste oslavili 16. narozeni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Lenka\Desktop\memory.jpg"/>
          <p:cNvPicPr/>
          <p:nvPr/>
        </p:nvPicPr>
        <p:blipFill>
          <a:blip r:embed="rId1"/>
          <a:stretch/>
        </p:blipFill>
        <p:spPr>
          <a:xfrm>
            <a:off x="1643040" y="373392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ocedurální – knowing how – implicit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sahuje pravidla nebo sled postupů, pomocí nichž lze vytvořit nové smysluplné cel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učené, zautomatizované doved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pravidla vytváření vět, plavání, řízení aut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Lenka\Desktop\memory.jpg"/>
          <p:cNvPicPr/>
          <p:nvPr/>
        </p:nvPicPr>
        <p:blipFill>
          <a:blip r:embed="rId1"/>
          <a:stretch/>
        </p:blipFill>
        <p:spPr>
          <a:xfrm>
            <a:off x="1643040" y="373392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i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předběžných podnětů na vním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rahové podněty – reklama × neprokáz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ědomý sémantický priming (slov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 pouhého vystavení (Zajonc, 19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ško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b050"/>
                </a:solidFill>
                <a:latin typeface="Calibri"/>
              </a:rPr>
              <a:t>klíčová s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Users\Lenka\Desktop\0900-priming-your-brain.jpg"/>
          <p:cNvPicPr/>
          <p:nvPr/>
        </p:nvPicPr>
        <p:blipFill>
          <a:blip r:embed="rId1"/>
          <a:stretch/>
        </p:blipFill>
        <p:spPr>
          <a:xfrm>
            <a:off x="4067280" y="4002120"/>
            <a:ext cx="5076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Vzpomínání, reprodukce, znovuvybav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Konfirmační zkresl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tendence přednostně vyhledávat informace, které potvrzují naše dosavadní mí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Očitá svěde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gestivní otá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c se neptat, nechat mlu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Lenka\Desktop\komix-bublina-zrkadlo.jpg"/>
          <p:cNvPicPr/>
          <p:nvPr/>
        </p:nvPicPr>
        <p:blipFill>
          <a:blip r:embed="rId1"/>
          <a:stretch/>
        </p:blipFill>
        <p:spPr>
          <a:xfrm>
            <a:off x="550080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KLÍČOVÁ 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měť a učení, dělení paměti – senzorický registr, ultrakrátká (echonická a ikonická paměť), krátkodobá a dlouhodobá – deklarativní – knowing what (explicitní) a procedurální – knowing how (implicitní) paměť, kódování, ukládání, vybavování</a:t>
            </a:r>
            <a:r>
              <a:rPr b="0" lang="cs-CZ" sz="3000" spc="-1" strike="noStrike">
                <a:solidFill>
                  <a:srgbClr val="00b050"/>
                </a:solidFill>
                <a:latin typeface="Calibri"/>
              </a:rPr>
              <a:t> –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pomínání, reprodukce, znovuvybavení, reverzibilní a ireverzibilní zapomínání, permastore, infantilní amnézie, retrográdní amnézie, anterográdní amnézie, priming, pracovní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Lenka\Desktop\6a00d8341bf7f753ef014e8701e793970d-800wi.jpg"/>
          <p:cNvPicPr/>
          <p:nvPr/>
        </p:nvPicPr>
        <p:blipFill>
          <a:blip r:embed="rId1"/>
          <a:stretch/>
        </p:blipFill>
        <p:spPr>
          <a:xfrm>
            <a:off x="5734080" y="4143240"/>
            <a:ext cx="3409920" cy="3191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everzibilní a ireverzibilní zapomí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pomínání není jednoznačně negativní jev – chrání mozek před zahlcením a přetíž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rozpadu pamětních stop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jsou-li změny vyvolané učením reaktivovány, spoje se rozpadaj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účelného zapomín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stranění nepřesného, nepotřebného, chybné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ztráty vodíte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ušení sítí v paměti, spoje usnadňují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bavování – fenomén mám to na jazy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interferen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iz další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držení poznatků v mysli po určitou dobu tak, aby mohla být uložena do dlouhodobé pamě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ě působí tzv.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interferen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jedna informace následuje druhou a utlumuje 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Lenka\Desktop\1300278061nebankovni-hypoteka2.jpg"/>
          <p:cNvPicPr/>
          <p:nvPr/>
        </p:nvPicPr>
        <p:blipFill>
          <a:blip r:embed="rId1"/>
          <a:stretch/>
        </p:blipFill>
        <p:spPr>
          <a:xfrm>
            <a:off x="0" y="385776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trategie na podporu konsolid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čkat, zopakovat, zeptat 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lenit lát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dat látce důležitost, probudit zájem o n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bát na první fázi (vštípení – závisí na pozornosti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aktické využití (smysluplno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rozumě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jení s něčím známým (síť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pojení více smysl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sku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novupoznání (snazší než vybave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odít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nemotechnické pomůc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Lenka\Desktop\i_love_amnesia_sticker-p217701170629570963envb3_400.jpg"/>
          <p:cNvPicPr/>
          <p:nvPr/>
        </p:nvPicPr>
        <p:blipFill>
          <a:blip r:embed="rId1"/>
          <a:stretch/>
        </p:blipFill>
        <p:spPr>
          <a:xfrm>
            <a:off x="5715000" y="3429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etrográdní amnézie, 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nterográdní amné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nézie (ztráta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úrazu hlavy, operaci mozku, onemoc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TROGRÁD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neschopnost vybavovat si zážitky z doby před vznikem amné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ANTEROGRÁD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neschopn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típit si do paměti zážitky 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niku poru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Calibri"/>
              </a:rPr>
              <a:t>Další: např. posthypnotická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ermast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mastore = permanent storage = permanentní („nezničitelná“) pamě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ůstává nezasažena i u nejvážnějších forem amné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chápání vět u anterográdní amné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Paměť tři prvky. První dvě složky jsou nepostradatelné – zmizí-li, ať už je příčina jakákoliv, je paměť zničená. Avšak zmizí-li poslední složka, pro sebe samu přestane paměť existovat, ale sama existovat nepřestane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Lenka\Desktop\Infant-And-Human-Growth-Hormone.jpg"/>
          <p:cNvPicPr/>
          <p:nvPr/>
        </p:nvPicPr>
        <p:blipFill>
          <a:blip r:embed="rId1"/>
          <a:stretch/>
        </p:blipFill>
        <p:spPr>
          <a:xfrm>
            <a:off x="6448320" y="0"/>
            <a:ext cx="269568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Infantilní amné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schopnost vybavovat si vzpomínky na událost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vních 3 let živo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načné individuální rozd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Např. Hospitaliazace, sourozenec, smrt rodič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Neurologické vysvětle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nezralost hipokamp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Kognitivní vysvětle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ozdíl v kódování vzpomínek dětmi a dospělými (především verbalizování × preverbální kód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statečná schopnost orientace v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č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nka.Sramkova@upol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Lenka\Desktop\Nákupní-předsudky-1.-část-250x250.jpg"/>
          <p:cNvPicPr/>
          <p:nvPr/>
        </p:nvPicPr>
        <p:blipFill>
          <a:blip r:embed="rId2"/>
          <a:stretch/>
        </p:blipFill>
        <p:spPr>
          <a:xfrm>
            <a:off x="2832120" y="2695680"/>
            <a:ext cx="39481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tří mezi poznávací proce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chopnost zaznamenávat životní zkuše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ce souvisí s otázkami učení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e základním předpokladem schopnosti učit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rimentální metody zkoum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Lenka\Desktop\Pictogram_memory.png"/>
          <p:cNvPicPr/>
          <p:nvPr/>
        </p:nvPicPr>
        <p:blipFill>
          <a:blip r:embed="rId1"/>
          <a:stretch/>
        </p:blipFill>
        <p:spPr>
          <a:xfrm>
            <a:off x="5865840" y="42940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enka\Desktop\Pictogram_memory.png"/>
          <p:cNvPicPr/>
          <p:nvPr/>
        </p:nvPicPr>
        <p:blipFill>
          <a:blip r:embed="rId2"/>
          <a:stretch/>
        </p:blipFill>
        <p:spPr>
          <a:xfrm>
            <a:off x="3286080" y="42940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Lenka\Desktop\Pictogram_memory.png"/>
          <p:cNvPicPr/>
          <p:nvPr/>
        </p:nvPicPr>
        <p:blipFill>
          <a:blip r:embed="rId3"/>
          <a:stretch/>
        </p:blipFill>
        <p:spPr>
          <a:xfrm>
            <a:off x="714240" y="429408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koumání paměti, Hermann Ebbinghaus (1850 – 190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oumal sám sebe, učil se několik let bezvýznamné slabiky (cca 2 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MIB-DAX-B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tvořilo řadu 5-7 slabik, stačilo mu na naučení jediné opaková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PACITA KRÁTKODOBÉ PAMĚTI JE 5 – 7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omínání je zpočátku velmi rychlé, ale postupně se zpomalu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bbinghausova křivka zpomí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3" descr="ebbinghausova-krivka-zapominani.gif"/>
          <p:cNvPicPr/>
          <p:nvPr/>
        </p:nvPicPr>
        <p:blipFill>
          <a:blip r:embed="rId1"/>
          <a:stretch/>
        </p:blipFill>
        <p:spPr>
          <a:xfrm>
            <a:off x="2000160" y="1119240"/>
            <a:ext cx="53578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Fáze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ŠTÍPENÍ (KÓD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ransformace senzorických vstupů do podoby mentálních reprezentací, které lze uložit do pamě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UCHOVÁNÍ (RET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ces podržení nebo uchování zakódované informace v paměti po různě dlouhou dobu. Během tohoto procesu je informace zpracovávána, tříděna, řazena do souvislostí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BAVENÍ (REPRODUK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yhledání informace v dlouhodobé paměti a jejich vyvolání zpět do vědomí, a to jak bezděčně, tak záměr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b050"/>
                </a:solidFill>
                <a:latin typeface="Calibri"/>
              </a:rPr>
              <a:t>Free recall (písemka) × Rekognice (tes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ělení paměti – modely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ichard Atkinson a Richard Shiff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ři hlavní pamětní systé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1. Senzorická paměť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prchavá, senzorický zásobní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2. Krátkodobá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aktivní, vědomá, omezená kapacit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3. Dlouhodobá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hypoteticky neomezená kapacit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enzorický registr, ultrakrát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 krátkou dobu uchovává informace ze smysl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ento čas je nezbytný pro stanovení toho, zda jsou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ůležité nebo 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Např. zpoždění vla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významné podněty jsou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pomenuty, relativn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ůležité přesunuty 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átkodobé pamě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Lenka\Desktop\memory-post-its-400x400.jpg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sobníky“ ultrakrátké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ídají jednotlivým smyslovým modalitá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IKONICKÁ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uchovává vizuální informace (&lt; 1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ECHONICKÁ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drží sluchové podněty (cca 3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trvačnost zrakového vjemu“ = „vizuální persistenc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např. kresba svíčko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George Sperling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12 písme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0 milisekund, ihned po promítnut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cit, že si pamatují vše, ale než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ísmena zapíšou, vjem zmiz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>
            <a:lum contrast="6000"/>
          </a:blip>
          <a:srcRect l="9436" t="13457" r="13206" b="14225"/>
          <a:stretch/>
        </p:blipFill>
        <p:spPr>
          <a:xfrm>
            <a:off x="6500880" y="4071960"/>
            <a:ext cx="2450880" cy="25718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2:37:41Z</dcterms:created>
  <dc:creator>Lenka Sramkova</dc:creator>
  <dc:description/>
  <dc:language>en-US</dc:language>
  <cp:lastModifiedBy>Uzivatel</cp:lastModifiedBy>
  <dcterms:modified xsi:type="dcterms:W3CDTF">2013-01-02T10:54:35Z</dcterms:modified>
  <cp:revision>106</cp:revision>
  <dc:subject/>
  <dc:title>Snímek 1</dc:title>
</cp:coreProperties>
</file>